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D799-0EAF-47FE-A924-06A3C121A30D}" type="datetime">
              <a:rPr b="0" lang="zh-CN" sz="1200" spc="-1" strike="noStrike">
                <a:solidFill>
                  <a:srgbClr val="000000"/>
                </a:solidFill>
                <a:latin typeface="Arial"/>
                <a:ea typeface="宋体"/>
              </a:rPr>
              <a:t>26/7/29</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72AF-2BB9-4472-A652-17E7AAFEFE4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62B0-3E67-435A-8E00-033ECDA5FAEA}"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E0E4-5467-4E2E-AD96-C10F3DC742A9}"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9B5D-8F66-44CD-8F26-153E49CE228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C599-EF8D-457D-9EBF-3E92B8D064AB}"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AF86-DE7F-4020-8DFD-A2F9167750C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28A1-C303-46EE-B0CA-72033DC277F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92B4-18F3-41FE-A430-F10CD6EC17F1}"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F07F-A120-454C-8085-214F06D5396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E905-5263-4518-8AB7-CE308A726DA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53C4-12EC-4855-A02D-9F8FF603CE28}"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E1B6CA-468A-428D-B9EC-12B6D538C1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5EA6D3-CFF6-4E44-87C0-7BAF6033E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99F956-72D6-445C-8D36-711EFB77D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55A3E8-ED84-408C-A0B0-D81BE1BADF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53DC95-3BA3-421A-95E0-F32DEE92C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F4B9E6-6DF3-4BD9-91D6-55DA8EFFDC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B8363-385A-4DF7-9B29-BCF79AA54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6ED66-9E4F-4466-8C73-D477F6574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8A800D-07CA-4ACD-86D9-F903200DA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A12AD0-1CC5-4BFB-AC54-F18D66011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C0980E-EBB8-4541-8A75-A52560EFD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839E8-0D97-4346-80F8-848F5179C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E6576-5BDB-4367-BEE6-FA439CCBE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C746B-31C2-4CCB-8A97-EC8BB069E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5B0E9-E825-4667-90EC-C3F6DCB6C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76F424-A2DB-41FA-85F6-DCD80EA76A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097180-B25F-40BB-9AF5-3A518B600A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DA545A-4C95-4501-B9AE-EE2E2843FC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EF55CA-527F-47D5-AC0D-DF84C083EF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4FF33E-988F-4D6A-A5AB-9167AE58D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50C4A2-2C89-4A4B-A5E8-D8C81CBFD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1BF1A9-1AD9-4634-80F5-1A297A6EF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9F0AFE-C229-4CE9-8567-AF308FE7F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3FCD8C-FFA0-4F0D-A1E6-35432E278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E7EF-4EEB-4BAE-9F52-D8353A73CF5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FC62-C089-4EEF-88D9-3892ECC8111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